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397-459E-4AE2-8BE3-E04A5E15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BDF9-454C-49FB-8EAF-0BC1D8E6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DD8F-2DE4-4323-97C9-ECCCBB22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AE2-9930-4F0B-8D1F-0536F59C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E410-D986-4491-A9EE-A987EEE3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E4A-CE16-4CAB-9772-A66259A0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5319-C7CC-4AF3-9C1D-B87CFAF3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8B71-B887-4A67-B02D-BFAFD7D9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AB07-64F6-4ABD-99EA-37CD2ABF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5BB3-ECF7-40DA-80DF-96776EA9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C85-6C40-4ACF-8FB0-BC1865FF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97E-FC5F-43B0-A892-4F698B5E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F32C-3566-441B-A559-CD61CCDCA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eas.txt" TargetMode="External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ισαγωγή στο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tlab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Matrix Laborator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333360"/>
            <a:ext cx="82296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Εθνικό Μετσόβιο Πολυτεχνείο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Σχολή Αγρονόμων και Τοπογράφων Μηχανικών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Εργαστήριο Φωτογραμμετρί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Προσδιορισμός διαστάσεων πίνακ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,1);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, 2);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3068640"/>
            <a:ext cx="822960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[r,c] = size(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r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rows =size(Data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rows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cols=size(Data, 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cols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&gt;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Αρχικοποίηση πινάκ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=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= zeros(m, n);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Μηδενικός πίνακα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x2)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= ones (m, n);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Πίνακα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 μοναδιαία στοιχεία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x2)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ye(n);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οναδιαίος πίνακα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x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= diag (n);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ΛΑΘΟΣ ΣΤΟ ΦΥΛΛΑΔΙ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= zeros (size(Data))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Μηδενικός πίνακας με διαστάσεις ίδιες με αυτές το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ίνακα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σ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x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πιλογή γραμμών, στηλών ή μεμονωμένων στοιχείων πίνακ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36831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 = Data(2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91.4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X = Data(:,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81029.8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80312.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80207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80832.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80559.7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80576.8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πιλογή γραμμών, στηλών ή μεμονωμένων στοιχείων πίνακ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55736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 = Data(1,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 1 through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1029.827    4203126.998       218.003      110.5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8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eod = Data (:, 1: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o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81029.827               4203126.998                   218.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80312.007               4202989.311                   191.4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80207.28               4203248.066                   168.4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80832.91               4203434.377                   191.1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80559.709               4203839.365                   182.5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80576.857               4202782.698                   215.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Σύνθεση πινάκ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Οριζόντια παράθε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= [X Y Z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1029.827               4203126.998                   218.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0312.007               4202989.311                   191.4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0207.28               4203248.066                   168.4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0832.91               4203434.377                   191.1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0559.709               4203839.365                   182.5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0576.857               4202782.698                   215.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Σύνθεση πινάκ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1197000"/>
            <a:ext cx="85327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Κατακόρυφη παράθεσ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_meas=[x;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_mea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10.5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4.6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3.8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6.6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.5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4.4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3.8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58.5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47.0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0.2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7.6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52.6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Πράξεις μεταξύ αριθμών και πινάκ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268280"/>
            <a:ext cx="853272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= ones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1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1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1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= M*b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ίδιο όπω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*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  2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  2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  2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Πράξεις μεταξύ αριθμών και πινάκ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268280"/>
            <a:ext cx="853272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= b + 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ίδιο με Μ 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3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3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3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= M -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   -1  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   -1  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   -1  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= b -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1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1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1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Πράξεις μεταξύ αριθμών και πινάκ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1557360"/>
            <a:ext cx="8532720" cy="47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ΡΟΣΟΧ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= M/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                       0.5                      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                       0.5                      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                       0.5                      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ΛΛ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= b./M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  2     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  2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    2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Πράξεις πινάκ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341360"/>
            <a:ext cx="842472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Πολλαπλασιασμός πίνακα με πίνακ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Έστω Α (m x n) και Β (n x k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C = A * B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όπο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x 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ΠΡΟΣΟΧ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C = A * B; Διαφορετικό από C = A.* B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ναστροφή πίνακ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 A’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ή    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=transpose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ντιστροφή πίνακ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 x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se = inv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Δομή παρουσίαση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έρος 1</a:t>
            </a:r>
            <a:r>
              <a:rPr b="0" lang="el-GR" sz="2800" spc="-1" strike="noStrike" baseline="30000">
                <a:solidFill>
                  <a:srgbClr val="000000"/>
                </a:solidFill>
                <a:latin typeface="Arial"/>
              </a:rPr>
              <a:t>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ισαγωγή σ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εριγραφή περιβάλλον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ργασία μέσω το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ασικές λειτουργίες το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έρος 2</a:t>
            </a:r>
            <a:r>
              <a:rPr b="0" lang="el-GR" sz="2800" spc="-1" strike="noStrike" baseline="30000">
                <a:solidFill>
                  <a:srgbClr val="000000"/>
                </a:solidFill>
                <a:latin typeface="Arial"/>
              </a:rPr>
              <a:t>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ργασία μέσω αρχείων και βασικές λειτουργί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αράδειγμα χρήσης το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lab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ια προσαρμογή κύκλου σε σημεία μέσω της ΜΕ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έθοδοι ελέγχου και αποσφαλμάτω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Πράξεις μεταξύ διανυσμάτων/ πινάκων ίδιων διαστάσε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268280"/>
            <a:ext cx="853272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= Data (:,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81029.8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80312.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80207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80832.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80559.7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80576.8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= Data(:,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203126.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202989.3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203248.0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203434.3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203839.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202782.6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Πράξεις μεταξύ διανυσμάτων/ πινάκων ίδιων διαστάσε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268280"/>
            <a:ext cx="8532720" cy="50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= X+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684156.8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683301.3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683455.3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684267.2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684399.0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683359.5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= X-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3722097.1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3722677.3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3723040.7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3722601.4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3723279.6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3722205.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Πράξεις μεταξύ διανυσμάτων/ πινάκων ίδιων διαστάσε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= X.*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21829452706.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18746231365.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18430320939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21149583486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20195821927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19760099658.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= X./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.1144457036936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.1142786648880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.114246714079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.1143904880806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.1143144795210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.1143473007130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Ύψωση σε δύναμ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341360"/>
            <a:ext cx="8424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Ύψωση αριθμού σε δύναμ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c= b^n;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(δίνει τη μεταβλητή b υψωμένη εις τη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Ύψωση πίνακα/διανύσματος σε δύναμ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=X.^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ΠΡΟΣΟΧ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τετραγωνικούς πίνακες η πράξη C = A^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C = A^3 ισοδυναμεί με την C = A* A*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Συναρτήσεις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34136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b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οσφέρει πλήθος συναρτήσεων οι οποίες δουλεύουν τόσο για πίνακες όσο και για στοιχεία. Μερικές από αυτές είναι οι εξή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τατιστικέ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(), max(), min(), median, stdev(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ριγωνομετρικέ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(), cos(), tan(), cot(), atan(), acos(),asin(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λ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ιμή γωνίας πάντα σ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νώ το πι είναι ορισμένο στο σύστημα ως σταθερά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ιάφορε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rt(), abs(), round()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λ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Συνδυασμός εντολώ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341360"/>
            <a:ext cx="842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X=Data(: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81029.8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80312.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80207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80832.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80559.7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80576.8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1=max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1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81029.8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2=max(Data(:,1))    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υνδυασμός εντολώ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2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81029.8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Συνδυασμός των προηγουμέν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84720" y="321300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ρχικοποίηση μεταβλητ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268280"/>
            <a:ext cx="41036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&gt; c=152.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2.6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&gt; Xo=mean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o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0586.43166666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&gt; Yo=mean(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203236.80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&gt; Zo=1415.3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o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15.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&gt; w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&gt; f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&gt; k=-50*pi/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0.7853981633974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Συνδυασμός των προηγουμέν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64000" y="2565360"/>
            <a:ext cx="37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ύνθεση του πίνακα στροφώ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1773360"/>
            <a:ext cx="7488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&gt; R=zeros(3,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(1,1)=cos(f)*cos(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(1,2)=sin(w)*sin(f)*cos(k)+cos(w)*sin(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(1,3)=-cos(w)*sin(f)*cos(k)+sin(w)*sin(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(2,1)=-cos(f)*sin(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(2,2)=-sin(w)*sin(f)*sin(k)+cos(w)*cos(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(2,3)=cos(w)*sin(f)*sin(k)+sin(w)*cos(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(3,1)=sin(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(3,2)=-sin(w)*cos(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(3,3)=cos(w)*cos(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&gt;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707106781186548        -0.707106781186547                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707106781186547         0.707106781186548                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                        0                        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Συνδυασμός των προηγουμέν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48360" y="2349360"/>
            <a:ext cx="37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Υπολογισμός αριθμητή και διαιρέτη της ως προς χ εξίσωσης της συγγραμμικότητα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773360"/>
            <a:ext cx="748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484280"/>
            <a:ext cx="7417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&gt; A1 = -c *(R(1,1)*(X-Xo) + R(1,2)*(Y-Yo) +R(1,3) *(Z-Zo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1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59697.05142914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906.419233696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2130.58804232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5277.323812502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7907.5926900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47970.22472399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&gt; P = (R(3,1)*(X-Xo) + R(3,2)*(Y-Yo) +R(3,3) *(Z-Zo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1197.3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1223.9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1246.8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1224.2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1232.7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1200.1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Συνδυασμός των προηγουμέν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2205000"/>
            <a:ext cx="377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Τελικός υπολογισμός για προσδιορισμ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μέσω της εξίσωση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773360"/>
            <a:ext cx="748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628640"/>
            <a:ext cx="741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 = A1./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9.85693728751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2.374634161119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33.78856341047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.310721997548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55.08514748433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9.9711235390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640" y="48690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**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ίδιο αποτέλεσμα μπορούμε να πετύχουμε αν αντί για τις τρεις τελευταίες εντολές δώσουμε την εξής εντολή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x =(-c *(R(1,1)*(X-Xο) + R(1,2)*(Y-Yo) +R(1,3) *(Z-Zo))).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(R(3,1)*(X-Xο) + R(3,2)*(Y-Yo) +R(3,3) *(Z-Zo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Μέρος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Τελεστές σύγκρισ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1773360"/>
            <a:ext cx="748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62864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(επιστρέφει την τιμή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(επιστρέφει την τιμή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(επιστρέφει την τιμή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&gt;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(επιστρέφει την τιμή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=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(επιστρέφει την τιμή 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~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(επιστρέφει την τιμή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Λογικοί τελεστέ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773360"/>
            <a:ext cx="748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1628640"/>
            <a:ext cx="7416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rt circ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&amp;&amp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)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, Ι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)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, ~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όπως στ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όνο για λογικό έλεγχο δύο τελούμενω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wise logical op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(AND), |(OR),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N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ησιμοποιούνται για εκφράσεις που αφορούν πίνακ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Λογικοί τελεστέ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773360"/>
            <a:ext cx="748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360" y="1484280"/>
            <a:ext cx="3311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a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b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a&amp;&amp;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A&amp;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1484280"/>
            <a:ext cx="3311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A=[1;1;0;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B=[0;1;0;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A&amp;&amp;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? Operands to the || and &amp;&amp; operators must be convertible to logical scalar val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1557360"/>
            <a:ext cx="205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A&amp;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Δομές επιλογή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1773360"/>
            <a:ext cx="748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1484280"/>
          <a:ext cx="8583480" cy="2562120"/>
        </p:xfrm>
        <a:graphic>
          <a:graphicData uri="http://schemas.openxmlformats.org/drawingml/2006/table">
            <a:tbl>
              <a:tblPr/>
              <a:tblGrid>
                <a:gridCol w="1817640"/>
                <a:gridCol w="1852560"/>
                <a:gridCol w="2421000"/>
                <a:gridCol w="2492280"/>
              </a:tblGrid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f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πρότασ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f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πρότασ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f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πρόταση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seif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πρότασ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seif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πρότασ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f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πρότασ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seif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πρότασ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seif (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πρόταση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43657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Διαφορές μ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πάντα μία λέξ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Δεν χρειάζεται να επισημαίνετε με { } τις εντολές των μπλοκ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άντα όπου τελειώνει η δομή επιλογής πρέπει να δίνεται η εντολή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Δομές επανάληψ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1773360"/>
            <a:ext cx="748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ομή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ένα βρόχ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=1: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 = Prod*X(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Με ένθετους βρόχ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=1: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j=1: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 = Prod*A(m,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Δομές επανάληψ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1773360"/>
            <a:ext cx="748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ομή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ρότασ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(dx&gt;0.001) &amp;&amp; (k&lt;=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=…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Δομές επανάληψ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773360"/>
            <a:ext cx="748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ΡΟΣΟΧ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 το πρόγραμμα φαίνεται να τρέχει και να μην σταματάει, πιθανά υπάρχει κάποιο σφάλμα που το υποχρεώνει να κάνει άπειρες επαναλήψεις. Στην περίπτωση αυτή η λειτουργία του μπορεί να σταματήσει πατώντας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κα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ταυτόχρο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Μέρος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1773360"/>
            <a:ext cx="748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Εργασία μέσ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ipts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και βασικές λειτουργίες εκτέλε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άδειγμα χρήσης το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lab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 προσαρμογή κύκλου σε σημεία μέσω της ΜΕ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έθοδοι ελέγχου και αποσφαλμάτω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5092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773360"/>
            <a:ext cx="748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ripts </a:t>
            </a:r>
            <a:br>
              <a:rPr sz="4000"/>
            </a:b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br>
              <a:rPr sz="4000"/>
            </a:b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σικές λειτουργίες εκτέλεσ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773360"/>
            <a:ext cx="748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ΠΡΟΣΟΧ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ταν δουλεύουμε μ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pt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ρέπει να είμαστε σίγουροι ότι το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ντιστοιχεί στη θέση στην οποία βρίσκονται 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pt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ι τα αρχεία των δεδομέν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path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.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\MATLAB6p5\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λλαγή μέσω το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360" y="189000"/>
            <a:ext cx="8128080" cy="6333840"/>
            <a:chOff x="468360" y="189000"/>
            <a:chExt cx="8128080" cy="633384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468360" y="423720"/>
              <a:ext cx="812808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6230160" y="1585080"/>
              <a:ext cx="1969200" cy="38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and Window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4304160" y="1379160"/>
              <a:ext cx="19400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39920" y="5185800"/>
              <a:ext cx="1969200" cy="38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mand Histo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114280" y="4980240"/>
              <a:ext cx="19400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35720" y="189000"/>
              <a:ext cx="1396080" cy="38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th Brows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67880" y="556200"/>
              <a:ext cx="528840" cy="2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39640" y="218160"/>
              <a:ext cx="660960" cy="38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at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509720" y="526680"/>
              <a:ext cx="543960" cy="33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44120" y="2113920"/>
              <a:ext cx="1175760" cy="38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900" spc="-1" strike="noStrike">
                  <a:solidFill>
                    <a:srgbClr val="000000"/>
                  </a:solidFill>
                  <a:latin typeface="Arial"/>
                </a:rPr>
                <a:t>Workspa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 flipV="1">
              <a:off x="1100160" y="1290960"/>
              <a:ext cx="558360" cy="10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80280" y="3098880"/>
              <a:ext cx="1969560" cy="38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Γραμμή εντολών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3554640" y="2892960"/>
              <a:ext cx="19400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64760" y="2746080"/>
              <a:ext cx="1175760" cy="38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Μεταβλητέ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820800" y="1923120"/>
              <a:ext cx="558360" cy="10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Βασικές λειτουργίες για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ημιουργί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έσω της γραμμής εργαλείων επιλέγω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M-f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και εμφανίζεται ο Μ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ποθήκευ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έσω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-&gt; Save As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οθηκεύω το νέο αρχείο με ένα όνομα που θα έχε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sion *.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χ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isthotomia.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Εκτέλε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φόσον το πρόγραμμα έχει τελειώσει ή αν θέλω να κάνω κάποια δοκιμή μπορώ να το τρέξω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είτε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έσω του Μ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or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ιλέγοντα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ραμμή εργαλείων ή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ug-&gt;Ru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ή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είτε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μέσω το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window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ράφοντας το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όνομα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του αρχείου και πατώντα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9640" y="1773360"/>
            <a:ext cx="748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9640" y="1773360"/>
            <a:ext cx="748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 flipH="1" flipV="1">
            <a:off x="179280" y="549360"/>
            <a:ext cx="144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052640"/>
            <a:ext cx="1295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-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32000" y="1773360"/>
            <a:ext cx="1295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_ed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84360" y="691920"/>
            <a:ext cx="2872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04000" y="1700280"/>
            <a:ext cx="12952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6659640" y="1125000"/>
            <a:ext cx="21744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4437000"/>
            <a:ext cx="1656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Ανοιχτά αρχεί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571640" y="486900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ΠΑΡΑΔΕΙΓΜ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ροσαρμογή κύκλου σε σύνολο σημεί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%Είσοδος δεδομέν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M=load('data.txt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= length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ows, Cols] = size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%Ορισμός βοηθητικών πινάκων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x = M(:,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y = M(:,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z = M(:,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Εισαγωγή δεδομένων από αρχείο στον πίνακα 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Προσδιορισμός διαστάσεων πίνακα 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Δημιουργία διανυσμάτων μετρήσεων επιλέγοντας στήλες του πίνακα 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ροσαρμογή κύκλου σε σύνολο σημεί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%Προσδιορισμος προσεγγιστικων τιμ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xm=mean(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ym=mean(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rm=mean(sqrt((x-xm).^2+(y-ym).^2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έση τιμή τω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,y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για τον προσδιορισμό του κέντρου του κύκλ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έση απόσταση των σημείων από το υπολογισμένο κέντρο για την εκτίμηση της ακτίνας του κύκλο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ροσαρμογή κύκλου σε σύνολο σημεί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n = L   %Πληθος εξισωσε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r = n-3 %Βαθμοι ελευθερι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%Αρχικοποιηση του διανυσματος των αγνωστ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dx=ones(3,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%Αρχικοποιηση του πινακα σχεδιασμ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A = zeros(n,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length(M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ό την αρχή του προγράμματ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Οι άγνωστοι θέτονται αρχικ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y = r = 1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ρχικά, όλα τα στοιχεία του Α θέτονται ίσα με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ροσαρμογή κύκλου σε σύνολο σημεί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280360" cy="29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%Αρχικοποίηση μεταβλητών συνθήκης ελέγχο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so_new=10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so_old=10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p =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abs(so_new-so_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&gt;10^-6 &amp;&amp;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p&lt;=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221000"/>
            <a:ext cx="8209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ρχικοποίηση μεταβλητών συνθήκης ελέγχου για τη δομή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ρχή το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πολογισμού με κριτήριο επανάληψης η απόλυτη μεταβολή του σφάλματος μεταξύ δύο επαναλήψεων να είναι &l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^-6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ο αριθμός των επαναλήψεων να μην ξεπεράσει τις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ροσαρμογή κύκλου σε σύνολο σημεί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20908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%-----Υπολογισμός των στοιχείων του πίνακα Α 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A(:,1)=[(1/2)./(x.^2-2*x*xm+xm^2+y.^2 2*y*ym+ym^2).^(1/2).*(-2*x+2*xm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A(:,2)=[(1/2)./(x.^2-2*x*xm+xm^2+y.^2-2*y*ym+ym^2).^(1/2).*(-2*y+2*ym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A(:,3)=[-ones(n,1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%-----Υπολογισμός των στοιχείων του πίνακα dl 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dl= [r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sqrt((x-xm).^2+(y-ym).^2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ροσαρμογή κύκλου σε σύνολο σημεί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%Διορθώσεις των προσεγγιστικών τιμών των αγνώστ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dx = (inv(A'*A))*A'*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U=A*dx-d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so_aposteriori = sqrt((U'*U)/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xm = xm + dx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ym = ym + dx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rm = rm + dx(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=p+1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ταβολή μετρητή για έλεγχο επαναλήψε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έλο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παναλήψε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Προσαρμογή κύκλου σε σύνολο σημεί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70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%Παρουσιαση των τελικων αποτελεσματ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disp('The final values of the parameters: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xm = xm + dx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ym = ym + dx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rm = rm + dx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so_aposteriori = sqrt((U'*U)/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Vx = (so_aposteriori^2)*(inv(A'*A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s=sqrt(diag(Vx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s_xm=s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s_ym=s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s_r=s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Βασικές εντολέ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 long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 co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30440" y="1484280"/>
            <a:ext cx="526752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θαρισμό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θαρισμός χώρου μεταβλητών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p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Επιλογή τρόπου παρουσίασης αποτελεσμάτων στην οθόν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ΕΛΕΓΧΟΣ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ΚΑΙ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ΑΠΟΣΦΑΛΜΑΤΩΣ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1128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0000" y="1773360"/>
            <a:ext cx="748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rcRect l="32474" t="9603" r="7531" b="28863"/>
          <a:stretch/>
        </p:blipFill>
        <p:spPr>
          <a:xfrm>
            <a:off x="539640" y="1413000"/>
            <a:ext cx="6842160" cy="5259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flipH="1">
            <a:off x="4427280" y="2711520"/>
            <a:ext cx="93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19640" y="1844640"/>
            <a:ext cx="374328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aluate se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κτελε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ις εντολές που έχουμε επιλέξε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274920" y="465444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67280" y="3719520"/>
            <a:ext cx="4032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τατρέπει τις εντολέ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υ έχουμε επιλέξει σε σχόλι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α οποία δεν εκτελούντα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omment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 αντίθετ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67280" y="5375160"/>
            <a:ext cx="4103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rt i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αχτοποιεί το κείμεν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ιορθώνοντας τις εσοχές σ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ρόχους και μπλοκ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3492000" y="5664240"/>
            <a:ext cx="5749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Μενού συντομεύσε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2"/>
          <a:srcRect l="0" t="0" r="0" b="10065"/>
          <a:stretch/>
        </p:blipFill>
        <p:spPr>
          <a:xfrm>
            <a:off x="395280" y="981000"/>
            <a:ext cx="8331120" cy="56167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1128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71640" y="2421000"/>
            <a:ext cx="748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400720" y="2349360"/>
            <a:ext cx="374328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ear all breakpoi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ταργεί όλα τα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ου προγράμματο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19280" y="2349360"/>
            <a:ext cx="360036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/clear breakpoi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ημιουργεί/ καταργεί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po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 κάποια εντολή που επιλέγ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282920" y="5156280"/>
            <a:ext cx="4104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ημιουργία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eakpoi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άνοντας κλί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εξιά από τον αριθμό της γραμμή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3492000" y="5589720"/>
            <a:ext cx="79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3492000" y="4221000"/>
            <a:ext cx="79236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500720" y="2060640"/>
            <a:ext cx="9349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5867280" y="2060640"/>
            <a:ext cx="1873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eak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Εκτέλεση με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eak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rcRect l="0" t="0" r="0" b="11193"/>
          <a:stretch/>
        </p:blipFill>
        <p:spPr>
          <a:xfrm>
            <a:off x="395280" y="1125360"/>
            <a:ext cx="8210520" cy="54676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1128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2421000"/>
            <a:ext cx="748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410160" y="2781360"/>
            <a:ext cx="3743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t Debug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έξοδος από τη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κτέλεση του προγράμματο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9080" y="2781360"/>
            <a:ext cx="360036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κτελεί τις εντολές μετά τ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poin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ία προς μί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59280" y="5013360"/>
            <a:ext cx="4103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εκτέλεση του προγράμματο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αματάει κάθε φορά πριν την εκτέλεσ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ων εντολών στις οποίες είχαν εισαχθε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068360" y="5446800"/>
            <a:ext cx="79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4068360" y="4078080"/>
            <a:ext cx="79236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510160" y="2491920"/>
            <a:ext cx="9349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7236000" y="2491920"/>
            <a:ext cx="15141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95280" y="100656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Γιατί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eak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71640" y="2421000"/>
            <a:ext cx="7488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141720"/>
            <a:ext cx="42480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Όλα τα αποτελέσματα που έχου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υπολογιστεί μέχρι το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point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είνα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ιαθέσιμα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για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έλεγχο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και </a:t>
            </a: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επεξεργασί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35640" y="4653000"/>
            <a:ext cx="4537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το πρόγραμμα μπαίνει σ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ναμον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0360" y="1052640"/>
            <a:ext cx="568800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υκολότερο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εντοπισμός λαθώ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ειδικά σε δομέ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πανάληψης και δομές επιλογή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όπου μας ενδιαφέρε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να δούμε ενδιάμεσα αποτελέσματα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επειδ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4787640" y="407628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826560" y="2349000"/>
            <a:ext cx="100836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626920" y="4149720"/>
            <a:ext cx="57636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002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παρουσιάση, οι σημειώσεις που σας δόθηκαν καθώς και όλα τα βοηθητικά αρχεία που χρησιμοποιήθηκαν υπάρχουν στη σελίδα του μαθήματος στη θέση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Βοηθητικό Υλικ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παρουσιάση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αλλά και οι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ημειώσεις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μοιάζουν αλλά δεν είναι απολύτως αντίστοιχες,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λληλοσυμπληρώνοντα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Όλα τα παραδείγματα δίνονται στην παρουσίαση έχουν αποθηκευθεί σε ένα αρχείο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lab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ation_commands.m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οποίο είναι ένα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ipt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ου μπορείτε να χρησιμοποιήσετε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για να εξασκηθείτε αλλά και να διευκολυνθείτε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για τις ασκήσει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*Το συγκεκριμένο αρχείο περιλαμβάνει κάποια σχόλια στα ελληνικά τα οποία μπορεί να μην είναι αναγνώσιμα στον υπολογιστή σας. Δοκιμάστε απ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Panel-&gt;Date,time…regional options-&gt; Regional and language options-&gt;advanced-&gt; Language for non-unicode programs -&gt;Gr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ν αυτό δεν γίνεται τότε υπάρχει το αρχείο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_commands.txt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στο οποίο σίγουρα θα μπορείτε να δείτε τα σχόλια στα ελληνικ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0920" y="1197000"/>
            <a:ext cx="85327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1773360"/>
            <a:ext cx="748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Ευχαριστούμε για την προσοχή σα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11280" y="50760"/>
            <a:ext cx="777852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Εισαγωγή δεδομέν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ε πληκτρολόγησ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= [481029.827, 4203126.998, 218.003, 110.581, 13.85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480312.007, 4202989.311, 191.426, 64.613, -58.57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480207.280, 4203248.066, 168.481, 33.871, -47.07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480832.910, 4203434.377, 191.138, 66.694, 20.24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480559.709, 4203839.365, 182.595, 10.551, 27.60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480576.857, 4202782.698, 215.248, 104.479, -52.619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Από αρχεί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= load(‘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eas.t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= [481029.827, 4203126.998, 218.003, 110.581, 13.85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80312.007, 4202989.311, 191.426, 64.613, -58.576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80207.280, 4203248.066, 168.481, 33.871, -47.07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80832.910, 4203434.377, 191.138, 66.694, 20.24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80559.709, 4203839.365, 182.595, 10.551, 27.60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80576.857, 4202782.698, 215.248, 104.479, -52.619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umns 1 through 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1029.827               4203126.998                   218.003                   110.5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0312.007               4202989.311                   191.426                    64.6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0207.28               4203248.066                   168.481                    33.8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0832.91               4203434.377                   191.138                    66.6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0559.709               4203839.365                   182.595                    10.5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0576.857               4202782.698                   215.248                   104.4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umn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85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58.5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47.0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.2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.6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52.6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&gt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= load('meas.tx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umns 1 through 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1029.827               4203126.998                   218.003                   110.5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0312.007               4202989.311                   191.426                    64.6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0207.28               4203248.066                   168.481                    33.8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0832.91               4203434.377                   191.138                    66.6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0559.709               4203839.365                   182.595                    10.5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0576.857               4202782.698                   215.248                   104.4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umn 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.85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58.5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47.0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.2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7.6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52.6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09:36:52Z</dcterms:created>
  <dc:creator>art</dc:creator>
  <dc:description/>
  <dc:language>en-US</dc:language>
  <cp:lastModifiedBy>art</cp:lastModifiedBy>
  <dcterms:modified xsi:type="dcterms:W3CDTF">2007-06-11T09:31:48Z</dcterms:modified>
  <cp:revision>32</cp:revision>
  <dc:subject/>
  <dc:title>Slide 1</dc:title>
</cp:coreProperties>
</file>